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94E-A794-4EB5-BA53-550B1BB7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E83-FD06-45DB-86CA-714C4FEA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3BB-7943-43DA-B120-0C0BEE62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806-F0D2-42B0-B22E-35E4FDA7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7060-43AC-4517-92D7-4102CBD0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2D12-CF90-4388-B5A8-3D1C0E7A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2792-00B5-477B-B369-5B75A0C8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B7BD-E610-4D55-B352-1BC31330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9195-D319-4297-B695-487B91C2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9E9F-4F6B-400C-92CB-C69FAA0A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249E-920F-4B31-9CAE-7132E5E4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D00-6882-40BA-88BB-F8179702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7BD5-3A48-4E6F-B3DB-B433A7C4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93AB-CC11-4D83-A245-692068DE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3020-1ECF-48EC-8597-1BAA8B20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24C5-C4C3-4470-A176-5C03F0C1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11C6-F3D1-48B6-BAA0-F100F3BB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60E-DFE9-4C22-837C-CCA466F1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4F5-0747-48CC-9ED3-00A83C0B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BDA-39A3-4305-BB7F-FF8D6AD6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2B3-8062-4780-9066-E560E871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36B-81B0-486E-B7EC-830027D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32E-A45A-478C-8216-47A81956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66A2-018C-47C8-A292-47075AED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400040"/>
            </a:solidFill>
            <a:ln w="442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40004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EAF6-AEFF-4B9D-855A-77F2ECACE27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400040"/>
            </a:solidFill>
            <a:ln w="507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E01A-036F-404D-BDAD-D0BB59EC62E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Республика Коми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много  ней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268280"/>
            <a:ext cx="86421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спу́блика Ко́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(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оми Республи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 — субъект Российской Федерации, входит в состав Северо-Западного федерального окру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лица — город 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ыктывка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ована республика Коми была 22 августа 1921 года как автономная область — АО Коми (Зырян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 декабря 1936 года была преобразована в автономную республику в составе РСФСР — Коми АССР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3 ноября 1990 года была преобразована в автономную республику — Коми ССР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6 мая 1992 года была преобразована в республику в составе России —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спублика Ко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708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много о ней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Флаг Республики Коми"/>
          <p:cNvPicPr/>
          <p:nvPr/>
        </p:nvPicPr>
        <p:blipFill>
          <a:blip r:embed="rId2"/>
          <a:stretch/>
        </p:blipFill>
        <p:spPr>
          <a:xfrm>
            <a:off x="6732720" y="328464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Герб Республики Коми"/>
          <p:cNvPicPr/>
          <p:nvPr/>
        </p:nvPicPr>
        <p:blipFill>
          <a:blip r:embed="rId3"/>
          <a:stretch/>
        </p:blipFill>
        <p:spPr>
          <a:xfrm>
            <a:off x="755640" y="3213000"/>
            <a:ext cx="952560" cy="1114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Республика Коми на карте России"/>
          <p:cNvPicPr/>
          <p:nvPr/>
        </p:nvPicPr>
        <p:blipFill>
          <a:blip r:embed="rId4"/>
          <a:stretch/>
        </p:blipFill>
        <p:spPr>
          <a:xfrm>
            <a:off x="3059280" y="2997360"/>
            <a:ext cx="2857320" cy="164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43657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ерб Республики Ко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16720" y="43657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лаг Республики Ко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48690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еспублика Коми на ка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Плато Мань-пупу-нёр"/>
          <p:cNvPicPr/>
          <p:nvPr/>
        </p:nvPicPr>
        <p:blipFill>
          <a:blip r:embed="rId2"/>
          <a:stretch/>
        </p:blipFill>
        <p:spPr>
          <a:xfrm>
            <a:off x="5148360" y="1916280"/>
            <a:ext cx="3241440" cy="2160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ырь - Щелье, скала, геологический памятник, расположен на реке Большая Сыня в 25 км выше совхоза Сыня, Печорский горсо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◊ Посмотреть фотографии объекта ◊"/>
          <p:cNvPicPr/>
          <p:nvPr/>
        </p:nvPicPr>
        <p:blipFill>
          <a:blip r:embed="rId3"/>
          <a:stretch/>
        </p:blipFill>
        <p:spPr>
          <a:xfrm>
            <a:off x="1619280" y="1916280"/>
            <a:ext cx="2808360" cy="21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50920" y="189000"/>
            <a:ext cx="51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26028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4149720"/>
            <a:ext cx="727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лбы́ выве́тривания (мансийские болваны) — геологический памятник в Троицко-Печорском районе Республики Коми России на горе Мань-Пупу-нёр (что на языке манси означает «Малая гора идолов»), в междуречье рр. Ичотляга и Печоры.Останцев 7, высота от 30 до 42 м. С ним связаны многочисленные легенды, прежде Столбы Выветривания являлись объектами культа манс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189000"/>
            <a:ext cx="48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амятники при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й мир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Обыкновенный таймень"/>
          <p:cNvPicPr/>
          <p:nvPr/>
        </p:nvPicPr>
        <p:blipFill>
          <a:blip r:embed="rId1"/>
          <a:stretch/>
        </p:blipFill>
        <p:spPr>
          <a:xfrm>
            <a:off x="5508720" y="4005360"/>
            <a:ext cx="2619360" cy="79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Европейская ряпушка"/>
          <p:cNvPicPr/>
          <p:nvPr/>
        </p:nvPicPr>
        <p:blipFill>
          <a:blip r:embed="rId2"/>
          <a:stretch/>
        </p:blipFill>
        <p:spPr>
          <a:xfrm>
            <a:off x="1116000" y="4005360"/>
            <a:ext cx="2619360" cy="742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26920" y="1413000"/>
            <a:ext cx="777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 ры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представлен в реках и озёрах Республики Коми 8 отрядами, 12 семействами, 47 видами. В бассейне Печоры преобладают сибирские виды, в других бассейнах больше видов, проникающих с юга. К реликтам ледникового периода относятся: голец-палия, сибирский хариус, пелядь некоторых горных озёр и ряпушка Лемвинских озёр. К редким видам с ограниченным ареалом относится таймень; к краснокнижным — бычок-подкаменщик. В 1960—1970-е годы в бассейн Вычегды из Камы проникли белоглазка,краснопёрка, чехонь, суда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Краснопёрка"/>
          <p:cNvPicPr/>
          <p:nvPr/>
        </p:nvPicPr>
        <p:blipFill>
          <a:blip r:embed="rId3"/>
          <a:stretch/>
        </p:blipFill>
        <p:spPr>
          <a:xfrm>
            <a:off x="3203640" y="5229360"/>
            <a:ext cx="26193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473040"/>
            <a:ext cx="81421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вотный ми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Grus grus 1 (Marek Szczepanek).jpg"/>
          <p:cNvPicPr/>
          <p:nvPr/>
        </p:nvPicPr>
        <p:blipFill>
          <a:blip r:embed="rId1"/>
          <a:stretch/>
        </p:blipFill>
        <p:spPr>
          <a:xfrm>
            <a:off x="826920" y="4724280"/>
            <a:ext cx="2524320" cy="1667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Беркут"/>
          <p:cNvPicPr/>
          <p:nvPr/>
        </p:nvPicPr>
        <p:blipFill>
          <a:blip r:embed="rId2"/>
          <a:stretch/>
        </p:blipFill>
        <p:spPr>
          <a:xfrm>
            <a:off x="6084720" y="4292640"/>
            <a:ext cx="2524320" cy="2305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5640" y="1700280"/>
            <a:ext cx="75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 Птиц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представлен 239 видами, 44 семемействами, 17 отряд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расные книги внесены: кречет, сапсан, беркут, орлан-белохвост, скопа, краснозобая казарка, пискулька и малый (тундряной) лебедь. Кроме того, охраняются лебедь-кликун, все хищные птицы, совы, серый журавль, кроншнепы, соловей и др. Промысловое значение имеют белая куропатка, глухарь, тетерев, рябчик, а также водоплавающие птицы (гуси, утки) и кулики (в основном вальдшнеп, дупель, бекас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14:57Z</dcterms:created>
  <dc:creator>студент</dc:creator>
  <dc:description/>
  <dc:language>en-US</dc:language>
  <cp:lastModifiedBy>Acer</cp:lastModifiedBy>
  <dcterms:modified xsi:type="dcterms:W3CDTF">2012-05-08T08:49:46Z</dcterms:modified>
  <cp:revision>2</cp:revision>
  <dc:subject/>
  <dc:title>Республика Коми</dc:title>
</cp:coreProperties>
</file>